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5EE-F9D1-4F79-85B1-B83A6025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8BA-EB69-4E24-B485-F62D4714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7F8-9D1D-477D-A2EB-096592A0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0EE-53C3-48D0-820A-5455EF9E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0C5-7629-4BC9-BE17-C732B75B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893-9CF5-4C67-840C-26B3D79B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B22-B528-4574-AA67-A02BB299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1C5-2CA4-4689-8EA3-7B36C4DB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651-EC6B-4778-A2B2-F9DBBB9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B4F-C472-4BE5-BA7C-BCA414CE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EDA-A85B-4F4F-80EA-FFA7B4A1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B92-37EC-4D48-92BC-F323D57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68F4-775E-455C-954C-52464392F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848360" cy="936720"/>
          </a:xfrm>
          <a:prstGeom prst="rect">
            <a:avLst/>
          </a:prstGeom>
          <a:solidFill>
            <a:srgbClr val="0000ff">
              <a:alpha val="4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Arial"/>
              </a:rPr>
              <a:t>Welcome to Room 7’s assemb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932000" y="5445000"/>
            <a:ext cx="3754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333399"/>
                </a:solidFill>
                <a:latin typeface="Arial"/>
              </a:rPr>
              <a:t>Ry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932000" y="5445000"/>
            <a:ext cx="3754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333399"/>
                </a:solidFill>
                <a:latin typeface="Arial"/>
              </a:rPr>
              <a:t>J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932000" y="5445000"/>
            <a:ext cx="3754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333399"/>
                </a:solidFill>
                <a:latin typeface="Arial"/>
              </a:rPr>
              <a:t>Z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932000" y="5445000"/>
            <a:ext cx="3754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333399"/>
                </a:solidFill>
                <a:latin typeface="Arial"/>
              </a:rPr>
              <a:t>Quin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09:35Z</dcterms:created>
  <dc:creator>Computer</dc:creator>
  <dc:description/>
  <dc:language>en-US</dc:language>
  <cp:lastModifiedBy>Computer</cp:lastModifiedBy>
  <dcterms:modified xsi:type="dcterms:W3CDTF">2008-06-18T09:15:34Z</dcterms:modified>
  <cp:revision>2</cp:revision>
  <dc:subject/>
  <dc:title>Welcome to Room 7’s assembly</dc:title>
</cp:coreProperties>
</file>